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35FB-19DA-4D28-862E-D952DEC1B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FF50-75B0-40D9-8EE1-43F742991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F0FC-EF99-4E14-ACD6-B246FE65B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ECC7-EAFC-46CF-ABD6-440244188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3EB4-01B0-44B0-9446-56B614516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E27E-9463-415F-9B20-6F03523C0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E416-12A4-4B15-96F9-DC2C2E76C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9CDC-EF6E-490E-A801-2B2C4D984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DB69-1A00-47C9-8E8C-0E66D1A2D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B333-55F4-4359-BE33-1B81D152D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CECB-3FDE-480F-87B0-E266CDD9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5EA5-D67E-4B59-B03F-518F2B39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7F1E0-8C98-4864-9F9F-8CF27ECF3601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3886200"/>
            <a:ext cx="7561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 Administrator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Zhou Jingyu, Liu Xia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9.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ern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Mini Framework with Wizards Management and Registration Mechan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capsulation to Open Tools API and IDE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Enabled/Disabled for Separate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fied Base Classes and Debugging Output Interfa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Switching Support of Multi-Language U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out 100 thousand Lines of Source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Team Struc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Responsibilit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ject Administrator, CVS Insp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eloper, Tester, Document Wri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unication Administrator: Mailing List, BBS, QQ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Leve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ministrator: Project Manager and Team 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P Member: Main Develop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on Member: Code Donator, Document Writ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Project Management Too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velopment Platform: 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irrors: Cosoft, 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Version Control: 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ask Management and Bug-Track Tool: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-based 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ightly-Build: w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cket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meline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’s Fu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: CnPack IDE Wizard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Improve Pascal Script, Provide More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upport to C++Builder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New Features and Bug-Fix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Plan for .NET or Java IDE (Eclipse) Plug-in 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mmunity Building: CnPack Community for Communications of Users and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Buil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Dem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Version: CnWizards 0.8.2 R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scal Script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stomization Build (DI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Environment.: 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Content: Code Input Helper,  Designer/Editor Toolbar, Unit/Form List, Multi-Language,  Wizards Settings, Pascal Script, Source Statistics, Customization Bui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ank You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500280"/>
            <a:ext cx="6400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Q &amp; 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Tea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was Established in 2001 from Delphibbs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bjective: Develop the Tools, Packages and Plug-in Set based on Delphi/C++Buil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embers: Now About 24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s: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,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Component Package, CVSTrac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itiator : Zhou Jingy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dministrator: Zhou Jingyu, Liu Xia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at is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a Free, Open-Source Plug-in Tools Set Used in Delphi / C++ Builder / BDS to Improve our Development Effici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First version of CnPack IDE Wizards is Published in 200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o can Use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Designed to Face the Programmers who Use Delphi 5 6 7 8 2007, C++Builder 5 6 or BDS 2005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Official Version of CnPack IDE Wizards Includes 3 Languages: Simplified Chinese, Traditional Chinese and Engli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rodu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urrent Version of CnPack IDE Wizards: 0.8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Zhou Jingyu,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the Initiator, Administrator, Main Designer and Author of CnPack IDE Wizards is Elected as an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Expert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 20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Users Cover Home and Aboard. CnPack IDE Users are More than 4300 by Upgrade-checking Statisti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Us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ackground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are Famous RAD Development T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Provides Open Tools API in IDE as an Open Plug-in Archite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re’re Similar Foreign Tools, such as GExperts, CodeRush, Castalia, ModelMak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Free Wizards with Chinese UI/Sty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, We Develop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Licen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t’s “CnPack IDE Wizards Licens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rived from the Official Open Source Defi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Commercial Usage of CnPack IDE Wizards Source Code without CnPack Team's Formal Author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is License should be Attach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Express or Implied Warran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ccept NO Liability for any Resul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haracteristic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UI Languages for Users at Home and Abro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werful and Creative. Some Features, such as Input Helper, are Origin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hinese-Style Features Make up of Similar Foreign Products for Chinese Us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omponents, Libraries and Debugging Tools are Attached for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e, Open Source. Open Architecture for Customization Develo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Liu Xiao</dc:creator>
  <dc:description>2001－2007 CnPack Team</dc:description>
  <dc:language>en-US</dc:language>
  <cp:lastModifiedBy>Passion</cp:lastModifiedBy>
  <dcterms:modified xsi:type="dcterms:W3CDTF">2007-07-11T12:53:42Z</dcterms:modified>
  <cp:revision>43</cp:revision>
  <dc:subject/>
  <dc:title>CnPack IDE Wizards Presentation</dc:title>
</cp:coreProperties>
</file>